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05A-8DC5-45E7-B0D1-69F9EB7B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F6C-0C46-48EC-A3D6-01BAF204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DB4-7BD3-4C08-9722-8EAA5BD4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CB0-1ECD-43B8-AF61-B59B8709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72E-C940-47B6-88D8-CC21D938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44E-438E-40C2-A23E-A3EBACBF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E69-7D23-435E-AFC9-954694DF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640-0135-41E9-B7C1-38C4BE5E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DAC-B005-4693-8727-9807D29E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2D2-123D-4E00-989C-FE41E520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B7A-08D2-4523-8719-4A0BA965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34E-8A12-4C45-AA92-C3F43ED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6633-6A47-48F0-B9FB-E465C847458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2 Questions About Soci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9640" y="1843200"/>
            <a:ext cx="83566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makes us change our attitudes is the discomfort we experience when two attitudes confl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st favored theory of attitude change is called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gnitive dissonance the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you do conflicts with what you thin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only way you can effectively reduce dissonance is to do one of two th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Change your behaviour to make it consistent with your at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Reinforce your at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cus on massive shifts in the behaviours and attitudes of groups and whole socie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 see change as an inevitabl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jor issue is whether social change is patterned and predictable or arbitrary and irreg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ree main ways of explaining soci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c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ycles of Growth and Dec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ec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al change was seen as being caused by decline or degen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dam and 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sociologists inevitably became more materialistic and less spiritual, they declined being less able  to provide for and protect all their citiz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709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920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ycles of Growth and Dec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eties do not head inevitably toward destruction, but instead go through cycles of growth and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ach new society builds on the experiences of its predecessors and social institutions change as a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ght look at social problems like solving problems with drinking and dr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624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nalyzing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eople within societies tend to behave according to societal no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ists tend to look at one or more of four aspects of social change in their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1.  Direction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 it positive or nega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o says s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 Rat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 the degree of change slow, moderate or fa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apid change overnight or a change that will take decades to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 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factors are behind the influences of change in a socie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Exogenou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(coming from another socie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Endogenou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( coming from within the socie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  Control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degree in which social change can be controlled or engine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acism, smoking, spousal ab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cus on people’s behaviours and at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would psychologists attempt to investig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sider the individuals who have been convicted three times for driving while intoxic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5 year ban and the prison sentence that result from that conviction will perhaps protect society for so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t what happens after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n we design programs to change problems like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must people do to successfully change their behavi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factors make behavior modification programs successfu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o most people need help changing behavior, or can they be self chang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uch of this research involves the strong links between people’s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ttitudes  (what they think) and behaviours (what they d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sychologists have discovered that it can be difficult to change people’s behaviours and at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e friends more persuasive than strangers in changing people’s attitu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effectively does the media mould and change our attitu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f a society considers a behaviour to be unacceptable, and imposes penalties, are people then less likely to do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sycholog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al Psychologists have discovered that most individuals desir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gnitive consist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e want to avoid attitudes that conflict with each other, and we tend to live more satisfying lives when this is the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569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4:13:45Z</dcterms:created>
  <dc:creator>Jason</dc:creator>
  <dc:description/>
  <dc:language>en-US</dc:language>
  <cp:lastModifiedBy>Jason</cp:lastModifiedBy>
  <dcterms:modified xsi:type="dcterms:W3CDTF">2010-09-28T15:37:29Z</dcterms:modified>
  <cp:revision>8</cp:revision>
  <dc:subject/>
  <dc:title>2.2 Questions About Social Change</dc:title>
</cp:coreProperties>
</file>